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8C4-11CB-4216-810A-11F140FA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83AF-3C15-4814-8487-FDCAAA45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13127-7CAA-4580-AE78-3D604878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C9FEE-FE63-46A1-9980-D8E95128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330DD-51F8-423E-8DF2-A95A1FFB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B65FD-0805-4547-A37A-72E438B9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D75BF-135A-4CC4-9596-B18F7548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55B77-F651-4337-BFE7-D929FAA5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E5B4A-7A11-4D1A-9CF4-FFF5426E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B654F-655E-4E4F-96D7-CF21AA77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73C13-808B-4DB6-A98F-736B0C3A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A4DF23-A428-44E4-BF21-E9EDFF99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C09-CBDC-48AA-B6AC-AD3CE4C4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BADF64-BA86-4B25-915B-C9A2EDC5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E2F3C4-2C30-4859-B388-FE8247A5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80F02F-111F-4D86-842E-4304AC17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DBAB68-7F27-4C0A-9926-C9B71831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801D4D-063B-43A7-97A9-72DC4C65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7AF2B6-E501-496E-84E7-89577AE6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66F5E9-6AF2-49BC-9F39-C835466D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DA9C02-1FA0-47CF-9C77-9F8B9818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718D6D-0CE9-4BD8-9C44-4E604615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FC3A35-74F1-4C54-A51D-741B9AD6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AB3-38DF-4140-B905-24B335BA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362614-D64F-4EB6-9858-9E2FC38F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216CE-49A4-4E62-ADB2-348200F5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2FA34-9D26-460E-8299-87ED4818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0D3F8-E88E-4678-ABE0-DF84107C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90C62-CEFA-4E0D-8E54-8E2902A2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1F007-086C-4EA5-8BDA-A5542286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003C4-6905-4753-8A0B-8E19E590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BDE8A-DEED-4D71-92D8-B37F92E4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0AD1B-0C55-47EC-A090-487A91E1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59DE4-4E3C-486D-8E1F-635DE640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7E04-61F4-4A75-887A-A6A80BB4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FB006-84B3-478C-97F7-9C76607B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E4B7C-3D6F-4248-A3ED-9FB945EE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C23B8-C7C7-4F2B-BBD8-E0DA0C45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FCF07-5B6E-49FC-808B-6CC3A99D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DB68D-6653-4E60-9D05-A77D276D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F8825-C66A-411A-9BDE-3C346161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DBA2F-334F-43DB-9A3C-158404AE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125A0-5AC0-4F1B-A8B4-7B1CF4DF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592CF-A863-4CD4-80BD-FE82FC6C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5D27F-846C-4186-98F1-2185B2C2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63C4-620B-4545-8727-D2F41FF7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F3072-D491-4343-9904-26254B2E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84FB0-FD73-4AF4-AF57-3E57E074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7A63C-3A15-4591-825B-4940A902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DBB1D-9AED-4803-A275-D0A8584A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54631-576C-4274-9865-838CBE88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6938-6596-4DBD-AD48-B30CDC5B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B56A-8A1D-4331-BAC7-834EBDC1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B75C-90FD-4A7E-BF1A-D950D249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0F47-EBD2-465D-A9A9-02C55AEA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4A7F-0B4D-410F-B618-133D966A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223E-8E68-47C0-A01E-A94977A3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5CC2-338B-4F16-9754-10449235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A8AD-D423-474F-BC4D-44385DD2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7D93-780D-430A-8B0D-EE5B1532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A682-0615-450C-A716-9678C3FD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6FDD-1ED7-45C6-9A42-63D40C8C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84867-9000-4CB6-AFF3-3C1941D2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BCA36-894E-4AC5-9AA8-7B5DD1DB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A2D78-7259-497F-B097-0B5D3BF6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EB019-772B-4AAA-86EC-D53CEAD7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6D7CB-5DF4-4D22-868D-4E21F35F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E2B2-9C74-4F9E-B17F-195647B3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A3F2E-8F78-43AD-99E8-898E1DB0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0F048-F3C5-49E1-91AC-E5EE024A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AE407-C3AB-4451-8A88-B60F0E16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BE2AE-6DF6-4FC7-911F-7AA5DCD5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5ACDF-F3C7-4B5D-8C92-DD84DDFC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329B7-2002-434C-87AD-5DDDB81C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5D9CE-9EAD-4B5B-808B-96CBD895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7457D-427F-4DD8-9621-861E608E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E3B3D-735B-4A48-9BD5-7539D971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658A4-1A94-4EF7-B262-AB73FA93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51E-0C81-4945-9DFA-6F1D3FA6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84B31-8B2E-4C33-B365-1300677F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C68AE-E8BD-4CE1-93F5-6669A79C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DBA96-04B3-48F4-8BE6-4D1ED286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A5038-5BBA-4D46-880C-73EE043D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25CEC-0791-4D03-9958-97518B87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8E714-314B-4856-A3CE-8053A1B0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2A6A2-FA2A-4A10-954F-74A503D6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ECD55-A810-400F-9007-9D9E400D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3EFA0-A422-4ED4-83D8-03769F5C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F8F553-F927-4371-992E-165CBEEE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3507-4961-4D13-BB94-CFC04DDF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D939ED-FD9C-4CB1-873F-C31CA20C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F2F310-B793-4522-BA01-CDA1FC4F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562788-34D9-4A67-8098-9706CF5D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F8E38-B41C-4348-9528-73BF744A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34168A-F3CC-4D97-8D9A-14A856AC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0FB967-D46D-4A73-9C9D-18D3EBC1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2C6934-E8E2-43CD-A5EF-35A651C1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72157-004C-4868-BC33-518A06A3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BBD6DF-E69B-4F2D-A9C1-1BC787DD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30DE4-556C-47DD-AD59-A33FABE0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D141-5F51-49E3-8D32-A9FC85E0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12FB2-C533-4654-A70C-82911A46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6DA30-D929-44DD-B041-CECF1689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DDA1F-5D65-4799-AFC3-3C629FED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80968-E0AD-4F30-8035-1A21E6AB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2A582-50A4-4170-B82B-F76DF7B6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03E26-92E2-44D7-B2BB-6A117070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6AA1B-785C-4585-B024-16984ADA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5A425-47FE-41E8-8C20-775F7EFB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424EF-CD98-4FE9-B136-1E24A326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2DE66-9FB5-4F45-AC70-B108C9DF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3181-9E20-424A-8481-A42EF56B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3A3B0-FB04-4265-87D6-D159593B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28B3D-C95D-4EF7-B100-0DD6BF84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4934C-F914-459E-ABC9-07BCD205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68F28-02CA-4239-8819-17E53C26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DBD1F-4D30-495C-A274-D1C46714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0E061-C8F8-4A05-8C22-4FE97A03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8CCB6-04E6-4DBC-90A0-5D949FA3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27D8D-38D6-4D91-9619-4A875BD5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D2935-8276-4511-B6B3-25BE3666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8FD17-E726-4A0D-8F55-7FDA8CCF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918-FC6B-4213-A289-56169E8D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0AD53-7D47-4EFA-810D-60243A2C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BE7A0-0D4C-422B-9B0C-B759F640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777E3-6C70-4F60-82F7-FFA1B155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7F80D-5A33-43C4-91B7-0EBC1D69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93D30-83BA-498B-A3EE-EE684ABF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CBE7F-32AD-4BD0-8807-C9D0D0A4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41526-D149-47FF-8450-1C337397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FC096-7603-4DBC-9266-BBBF4DCA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4CAF1-A680-487D-8A42-AD1EB5EC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0C367-258A-4734-B480-7C3498FB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A9E2-2AA5-419A-B886-A2DC4FE8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41019-CA9A-4D6A-AE88-58109EDC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C0787-3009-4544-BD5D-93137CA5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E1501-8230-4CC3-983A-F99C5831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F3C7B-9DCF-406A-B8AD-B4A1DAF3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4D24C-6764-4131-8A1D-8AB5F1A7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BBEDA-0C7A-40F8-847A-C62338EC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6E5FB-2944-487E-B6F0-6252D38C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C6C35-56FC-49D7-95CC-B6FEC5D5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8A665-2C50-4E93-85AD-3C455228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2D6C0-F581-48F1-A254-38393EA5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9FD9-2FB3-4755-81FB-9FD04634A34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9934-C368-4BB9-9BD4-42F3020183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6007-0DF9-4AA9-8AB6-25B9ECC4865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8696-327C-47B2-877D-B4788F344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FF5B-370F-41A3-941F-F8D3BF5988B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F873-3533-419F-910F-47D672451B0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E39C-8606-4C15-A667-812CAE3301B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7695-2587-4B93-9A6F-1080423F960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A99B-D1EE-4EA8-9107-26633B5734B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15AC-996C-4C6E-BE6D-173AAA7666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FACD-16B6-4646-AE79-0E0B5E0E00E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E761-9B58-47CD-A158-38DA8938D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2F03-ECE5-438D-8842-E2805864FC4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1FE1-95D6-4DC1-888B-0B5B8EA84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41CE-B7AC-44D5-8EC5-76CF3FAA03D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43A3-EAD2-48CD-BE43-62CCF2E57AE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00D0-DB4D-41AB-9BFA-20109D760E9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D656-9076-480E-BCF7-B97F9C26F8D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9617-D2EA-42F1-BBB8-7BB26B2A181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69E1-73E5-4A5F-BD01-01BE113274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77F6-2352-4B56-8B0E-1D612A647AF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51DD-FCCF-4C3B-ADCF-1F384ED04BE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1717-53A4-42F5-9441-5B9A3309E89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5F9A-ECC5-45C9-8FC2-1085139AF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D78E-2139-4A5B-9224-223111A5E8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1A35D-42F7-4B85-8841-2B31CF47672C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59921-E4B8-4D60-88AF-90EF97E0B4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5F89CF46-AC7C-4EA8-B6A9-4F4257C52006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118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BA0C0-1521-4C8D-B1E6-15CD291C2921}" type="slidenum">
              <a:t>3</a:t>
            </a:fld>
          </a:p>
        </p:txBody>
      </p:sp>
    </p:spTree>
  </p:cSld>
  <p:transition>
    <p:comb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52ED9A-9D31-4773-847E-B3E8CB1B4C9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F827A0F2-D2EA-4B65-AFC2-BB02DD0F2C74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56DE5-23CA-4A48-9182-45758CE885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6544E8AE-89CE-49E9-8EA6-0A3F0E61746E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8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0DE9B-524C-4041-86E6-4D12D1E02E6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AE0CEBBD-562B-4A77-9DF6-5058BAEAE24B}" type="datetime1">
              <a:rPr lang="en-US"/>
              <a:t>07/30/26</a:t>
            </a:fld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