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59006"/>
        <c:axId val="91636648"/>
      </c:barChart>
      <c:catAx>
        <c:axId val="64459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36648"/>
        <c:crosses val="autoZero"/>
        <c:auto val="1"/>
        <c:lblAlgn val="ctr"/>
        <c:lblOffset val="100"/>
        <c:noMultiLvlLbl val="0"/>
      </c:catAx>
      <c:valAx>
        <c:axId val="91636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59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6E1-24D9-4A90-9255-2C8DD730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E56-FA9A-4D9E-9337-4D9326A2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F35-CC48-4597-8ABB-AD3B00FD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C46-EABA-4E14-AA08-5DC9D0C3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4C0-4BC7-4712-9814-9093499B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0B7-CFFC-4D46-BF1E-8B08BBDD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A92-9965-4ED3-96F7-EFA8168F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CBE-EC7A-4C3F-854B-54668C47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F9D-F7A2-4919-8A94-5514EF22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2D6-7BA7-4F65-BA40-A540117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B83-C300-4E86-8E6F-843EC7DD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825-EB5A-478A-9458-91E99C57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C2F49-DF58-4CD0-ACE7-EB56A2CDBA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