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30860"/>
        <c:axId val="29596206"/>
      </c:barChart>
      <c:catAx>
        <c:axId val="90630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6206"/>
        <c:crosses val="autoZero"/>
        <c:auto val="1"/>
        <c:lblAlgn val="ctr"/>
        <c:lblOffset val="100"/>
        <c:noMultiLvlLbl val="0"/>
      </c:catAx>
      <c:valAx>
        <c:axId val="29596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30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B59-455E-416E-8940-CCAAB565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014-952A-44BF-8D8D-1A3B0A96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84-53F8-4D8E-84DD-6C1E94F2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0B8-8F10-46A1-9F94-A9F51A6D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319-A5F8-4600-A044-71AD2A3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33C-8EAE-45C4-BC20-88B621F2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912-5BD2-42F9-B51D-CC8C4744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2D3-DD50-4308-A393-FEE9B55E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EF9-1261-417F-855F-946524BF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D9C-68B4-430E-8360-0D3F2E1A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34E-B687-47E5-B220-E31F6E5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A75-C13F-4B8D-B556-617C3C6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F5F0B-E32C-4CB9-BF6A-11981BD0EF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