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862350"/>
        <c:axId val="6348575"/>
      </c:barChart>
      <c:catAx>
        <c:axId val="618623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48575"/>
        <c:crosses val="autoZero"/>
        <c:auto val="1"/>
        <c:lblAlgn val="ctr"/>
        <c:lblOffset val="100"/>
        <c:noMultiLvlLbl val="0"/>
      </c:catAx>
      <c:valAx>
        <c:axId val="63485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623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08D9-0DBF-4A10-8138-BD94FC6AF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8F91-A4E7-4D08-AB1F-E5682E2E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9F22-56DC-4D20-9764-E59EFE97F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AB43-1656-4E47-8C8F-541C3A2F9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00CD-9EFC-4A23-9636-A903803D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5C7F-F2AE-429F-B67F-AE3A2917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98B5-61D9-4037-B625-E0C32463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5A7C-84FF-4038-930C-DF53665B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26E0-AFBE-4F89-9FA5-DBBA3591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C685-CBB7-42C6-BF58-BF45379C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DC67-B988-4441-9177-D0709E1E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ED4A-DB6C-42EB-B123-572AA8B6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B69A3-79BD-43B2-A61E-C28C1B4CFF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