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70466"/>
        <c:axId val="25716212"/>
      </c:barChart>
      <c:catAx>
        <c:axId val="10170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16212"/>
        <c:crosses val="autoZero"/>
        <c:auto val="1"/>
        <c:lblAlgn val="ctr"/>
        <c:lblOffset val="100"/>
        <c:noMultiLvlLbl val="0"/>
      </c:catAx>
      <c:valAx>
        <c:axId val="25716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0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7EF-2814-4492-8A33-2D4D6B50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383-918D-429B-B75A-2050C2C2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E19-B839-4B86-A6E6-2BC1E8FC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C06-B0C1-4BB8-BDC8-6C9BD275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725-E4DB-4A93-897F-9238FC64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F4E-952A-4528-9FD2-6A74CC80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7D1-94FC-4B46-97CE-DEB496F0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9A6-125D-4B5B-825D-1D1F223F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9A3-86F9-4C5A-BCB8-527CBB17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B91-42F7-444C-A5A5-DB70638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DB1-C97B-47BE-A8D7-B3F4E53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816-3E4C-4BDF-98D8-BAF21BFA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74A2D-B25A-4556-ABB5-F90E744A67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