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19848"/>
        <c:axId val="23417251"/>
      </c:barChart>
      <c:catAx>
        <c:axId val="64719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7251"/>
        <c:crosses val="autoZero"/>
        <c:auto val="1"/>
        <c:lblAlgn val="ctr"/>
        <c:lblOffset val="100"/>
        <c:noMultiLvlLbl val="0"/>
      </c:catAx>
      <c:valAx>
        <c:axId val="23417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9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F2B-5AA2-41F7-9B20-E8897E6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C4D-AECC-4E41-88CA-40C0BAD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B9C-A7C2-4E15-A9B9-B8AE5DB3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253-8A94-42C9-B91F-A169AB8D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649-5B12-4CDF-A275-B79FEFA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667-B1B4-4223-872A-31027F64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DA1-1CC1-4333-9BD0-82B8D734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F36-7032-4039-9DB7-789CB34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A1F-61AD-49D6-9F6E-139F7AF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9C3-CBC6-4BC7-BA65-4E2B6E2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9DE-B831-4176-B425-B8E19B3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32F-E24A-475D-9A74-D578C46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F3BBB-0B98-4F8B-9E46-53E0FAE10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