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8290"/>
        <c:axId val="77505586"/>
      </c:barChart>
      <c:catAx>
        <c:axId val="8767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5586"/>
        <c:crosses val="autoZero"/>
        <c:auto val="1"/>
        <c:lblAlgn val="ctr"/>
        <c:lblOffset val="100"/>
        <c:noMultiLvlLbl val="0"/>
      </c:catAx>
      <c:valAx>
        <c:axId val="7750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1EA-2ACC-46F4-A7B5-F89D005A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954-FC38-463E-91A7-B66FA0B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71A-3FAA-40E1-A304-DD77584B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A58-DB14-4DE2-892F-AB9F3608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EDD-2DE9-49FA-A773-0B92175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90C-305F-4D2A-B5FB-70533248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089-07AB-4FF3-93C0-F05694D6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6D2-172C-4070-BD69-B3EEB7D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D79-5F40-4057-B10F-DB5809BF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36C-E120-4FDE-8ADC-B348BD1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1D4-5620-4BAA-90AA-E0B69BB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11F-D045-4AE8-88B8-C7F7636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34DBB-69AD-4DDE-8F2F-14417199A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