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73995"/>
        <c:axId val="26684149"/>
      </c:barChart>
      <c:catAx>
        <c:axId val="93473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84149"/>
        <c:crosses val="autoZero"/>
        <c:auto val="1"/>
        <c:lblAlgn val="ctr"/>
        <c:lblOffset val="100"/>
        <c:noMultiLvlLbl val="0"/>
      </c:catAx>
      <c:valAx>
        <c:axId val="26684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73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51E-9482-42E4-B4FC-DF7E8760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3CC-103B-4CA3-8179-25CDFB5FA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4B2-F743-4E15-92A5-E92686AB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1C9-3B48-45E2-814C-819B2A89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DFC-8DFF-446B-A426-E21B0A5B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B9D-3069-4EA1-AFD5-9B830E7F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E73-8591-4BE1-B34A-FDD50917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C66D-B894-4B32-BFCC-267C325E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3F2-F4AC-4329-8F60-DDF7B4EE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7ED-669F-4AF7-BE3B-01B480CA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78E-3B0D-4C41-BC6C-7DC66C84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1517-A631-47D3-9CB6-4C07493D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E389E-A1F7-49E8-847C-1E0399D8CC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