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06327"/>
        <c:axId val="21492403"/>
      </c:barChart>
      <c:catAx>
        <c:axId val="35006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2403"/>
        <c:crosses val="autoZero"/>
        <c:auto val="1"/>
        <c:lblAlgn val="ctr"/>
        <c:lblOffset val="100"/>
        <c:noMultiLvlLbl val="0"/>
      </c:catAx>
      <c:valAx>
        <c:axId val="21492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06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858-FF93-4626-85B8-A0222C0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6E8-97F6-4668-9ADA-99D31F0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706-65D2-4E42-BCAA-C07B4AB7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467-62E4-4F5B-A2AF-4273B3EC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E93-69EA-44BE-BCEF-D5FEFD99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247-8084-49B8-B018-FE28747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A6B-A1A6-4179-863D-5412BC84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990-BDE9-4194-AE5A-2D5903B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F9F-5C5E-44F5-A1D3-628C10CD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74C-7BF5-4B08-B069-C6A0FFC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6BD-1EF3-4A92-AE8A-32A6618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2B6-F77C-4A91-88F0-8EEDFDB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23B4-A0D3-4A5D-96CC-1C260BA631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